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BC7-18F1-4E7F-B3EF-77F41254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42A-4C9E-4266-90FE-6C0AFE87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35C-6998-4F36-A45A-64F369A6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227-5AC9-4E6F-9BCE-0434F3A7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0C68-2D6E-4D66-93E8-5ABCF07F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BCF0-3E43-480F-A5C1-4C57A12A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7725-25CF-472F-B46B-8A007DD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943F-DE7B-468E-9021-2C0C3847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8EF3-EB6F-407F-9F01-15518E21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FBB9-EFF5-4961-BFDC-B682CA01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F80E-A397-45B8-B5E8-37F1DE68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6C8-3370-4374-824C-831045AA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B2C2-FA5D-4DC9-9CDE-E6BCB73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D0BD-370D-40C7-97BC-A60B28B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C289-5B8E-43F0-BF74-848E1691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A432-38D3-40B6-B1B9-B1F65E27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ECFF-8033-49B7-B4C7-70FE7C9A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675-7D70-42BE-BC9A-D3EAA551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E21-2C4B-4D51-A53D-71C1013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A3E-1D1E-4F84-B79C-7D73E80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181-AC2C-4B70-9D91-D2BDFB36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B5A-9F5B-498B-9BE8-A00B8CE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E85-F04F-4012-A239-836B65AC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6C7-F5AA-452F-A427-76CCEA3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D130-90EA-41E5-81C7-23854959BB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8F37-9438-4E26-BB53-D395266FA0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ouseinteriorhome.com/wp-content/uploads/2010/11/dining-room-under-wat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LA CAS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Guillermo Di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s mi mansi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ón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6772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648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 cocina es muy bonito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Mi cuarto es muy moderno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s un garaje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71760" y="2301840"/>
            <a:ext cx="5056200" cy="3794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600200" y="1295280"/>
            <a:ext cx="5372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i Garaje muy gra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09680"/>
            <a:ext cx="822960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514600" y="228600"/>
            <a:ext cx="41148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ill Sans Ultra Bold Condensed"/>
              </a:rPr>
              <a:t>Es un come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ill Sans Ultra Bold Condensed"/>
              <a:ea typeface="Gill Sans Ultra Bold Condense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1523880"/>
            <a:ext cx="8001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 comedor es muy bonito y medern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 ban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i bano muy luj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Bathroom Designs steam"/>
          <p:cNvPicPr/>
          <p:nvPr/>
        </p:nvPicPr>
        <p:blipFill>
          <a:blip r:embed="rId1"/>
          <a:stretch/>
        </p:blipFill>
        <p:spPr>
          <a:xfrm>
            <a:off x="533520" y="2095560"/>
            <a:ext cx="82296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 sala es muy muy boni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0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10:02Z</dcterms:created>
  <dc:creator>diazgui</dc:creator>
  <dc:description/>
  <dc:language>en-US</dc:language>
  <cp:lastModifiedBy>diazgui</cp:lastModifiedBy>
  <dcterms:modified xsi:type="dcterms:W3CDTF">2012-10-25T17:12:56Z</dcterms:modified>
  <cp:revision>4</cp:revision>
  <dc:subject/>
  <dc:title>LA CASA</dc:title>
</cp:coreProperties>
</file>